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5E9-6A26-41B3-8B6C-11E8E0B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F2F-B761-45E5-8638-D69906F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1F0-A054-4F71-BE1E-771A924B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630-B283-4104-9EA1-63528C83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E40-ABAB-4794-8014-865D992F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46D-0318-402A-9B42-76391EF8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94D-2480-4D70-AE3A-C5BFB98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532-FE1C-4094-969D-ABC2A650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079-6E2A-4880-8A20-E870219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8F6-8B38-491A-A1D2-30A5DBD1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158-F0E4-44B6-9A06-941A131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1D9-D72B-4B27-9DE9-216BD525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E1E7-4326-43FD-92CC-7ADC21C2BF7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Kristen ITC"/>
              </a:rPr>
              <a:t>Meursault – de l’action à la pensée</a:t>
            </a:r>
            <a:endParaRPr b="0" lang="en-US" sz="32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916280"/>
            <a:ext cx="7129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How has prison changed Meursault’s perspectiv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How does Meursault’s narrative change in part 2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Metaphor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Structured narrative’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40608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Kristen ITC"/>
              </a:rPr>
              <a:t>Meursault aux assizes – absence et présence</a:t>
            </a:r>
            <a:endParaRPr b="0" lang="en-US" sz="32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916280"/>
            <a:ext cx="712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What are the key events of the trial that Meursault </a:t>
            </a:r>
            <a:r>
              <a:rPr b="1" lang="en-GB" sz="2400" spc="-1" strike="noStrike">
                <a:solidFill>
                  <a:srgbClr val="2f1311"/>
                </a:solidFill>
                <a:latin typeface="Comic Sans MS"/>
              </a:rPr>
              <a:t>does</a:t>
            </a: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 describ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At which moments does he ‘drift out’?  Why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40608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e procureu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916280"/>
            <a:ext cx="712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What are the key elements of the ‘procureur’s’ argument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What is Meursault’s reaction to this line of argument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4000" y="406080"/>
            <a:ext cx="401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justice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71294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« </a:t>
            </a:r>
            <a:r>
              <a:rPr b="0" lang="fr-FR" sz="2800" spc="-1" strike="noStrike">
                <a:solidFill>
                  <a:srgbClr val="fcf6f6"/>
                </a:solidFill>
                <a:latin typeface="Comic Sans MS"/>
              </a:rPr>
              <a:t>Nous voyons triompher l’injustice, l’erreur des reconstitutions d’une justice qui cherche la cohérence là où régnait hasard et chaos.  Toute la stratégie du procureur vise à cette démonstration »   (p61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f6f6"/>
                </a:solidFill>
                <a:latin typeface="Comic Sans MS"/>
              </a:rPr>
              <a:t>L’Etranger – Balises – Pierre Sauv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57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badgers</cp:lastModifiedBy>
  <dcterms:modified xsi:type="dcterms:W3CDTF">2006-10-05T11:06:33Z</dcterms:modified>
  <cp:revision>7</cp:revision>
  <dc:subject/>
  <dc:title>Les thèmes du récit</dc:title>
</cp:coreProperties>
</file>